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3B5-FC9A-499A-890E-FB660152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360-DF3B-4D0D-83B3-04ED249B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298-118D-42E6-AB15-2BA2F30F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434-F982-4F4F-A9B6-E5B6DAC8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5CA9-2ACE-49C0-AFE6-90B3FFF6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B894-99D6-4520-9D5F-B5402F3D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DCD7-5EDE-4BA6-9D41-2DA384CE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4777-A59A-4250-9993-958AD5CB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336A-3429-415B-83A7-2B2ADF39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9407-D58C-493B-8E4D-D475928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3708-D71B-4211-B135-7CDAB1A7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298-E805-4F65-9E80-EFD596C4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2CBF-E838-4E5D-8DDA-53E1850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8947-383B-4249-97BE-795A47F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AC80-A863-4793-BD43-3D2A602B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C162-17C8-40C6-8AE4-15216993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6EE1-CB9C-4A42-AC15-F06CFBA1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9BC-F922-4749-8EB8-937BC241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3A2-591C-46CE-AE69-0BCCD26E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90E-1E8C-49C5-A3BA-F1ED6030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08D-A6EE-4984-924C-40F2A16C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9AB-D9E9-43CF-9FE8-9A76490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845-F5E9-4D80-A796-2C5206B7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524-02D7-4FE0-982B-AC450890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0F32-664E-43E2-9E81-CD5FA105B2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20A1-41E8-489A-BE0A-C2BFC3F92C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715160" cy="4714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f0000"/>
                </a:solidFill>
                <a:latin typeface="Comic Sans MS"/>
              </a:rPr>
              <a:t>Общие понятия о сечениях. Правила выполнения наложенных и вынесенных сечений, их обозначение.</a:t>
            </a:r>
            <a:br>
              <a:rPr sz="9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46280" y="4530600"/>
            <a:ext cx="233532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ысленно представляем фигуру се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9"/>
          <p:cNvPicPr/>
          <p:nvPr/>
        </p:nvPicPr>
        <p:blipFill>
          <a:blip r:embed="rId1"/>
          <a:stretch/>
        </p:blipFill>
        <p:spPr>
          <a:xfrm>
            <a:off x="4500720" y="182880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едставленную фигуру изображаем на черте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10"/>
          <p:cNvPicPr/>
          <p:nvPr/>
        </p:nvPicPr>
        <p:blipFill>
          <a:blip r:embed="rId1"/>
          <a:stretch/>
        </p:blipFill>
        <p:spPr>
          <a:xfrm>
            <a:off x="5148360" y="1989000"/>
            <a:ext cx="302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На сечениях показывают только то, что находится непосредственно в секущей плоск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Сечение – это не действие, а изображен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3772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Вынес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алож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2626920" y="981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211640" y="98100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0" descr="12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бо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11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685800" y="2760840"/>
          <a:ext cx="377208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0840"/>
                    <a:ext cx="377208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9" descr="13"/>
          <p:cNvPicPr/>
          <p:nvPr/>
        </p:nvPicPr>
        <p:blipFill>
          <a:blip r:embed="rId3"/>
          <a:stretch/>
        </p:blipFill>
        <p:spPr>
          <a:xfrm>
            <a:off x="250920" y="1052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6" descr="14"/>
          <p:cNvPicPr/>
          <p:nvPr/>
        </p:nvPicPr>
        <p:blipFill>
          <a:blip r:embed="rId1"/>
          <a:stretch/>
        </p:blipFill>
        <p:spPr>
          <a:xfrm>
            <a:off x="468360" y="112536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понятия о сечениях как изображениях, а также их назначение и приме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алгоритм построения се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пространственные представления, пространственное мыш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3918240" cy="30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2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3"/>
          <p:cNvPicPr/>
          <p:nvPr/>
        </p:nvPicPr>
        <p:blipFill>
          <a:blip r:embed="rId1"/>
          <a:stretch/>
        </p:blipFill>
        <p:spPr>
          <a:xfrm>
            <a:off x="709560" y="549360"/>
            <a:ext cx="7647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"/>
          <p:cNvPicPr/>
          <p:nvPr/>
        </p:nvPicPr>
        <p:blipFill>
          <a:blip r:embed="rId1"/>
          <a:stretch/>
        </p:blipFill>
        <p:spPr>
          <a:xfrm>
            <a:off x="685800" y="1052640"/>
            <a:ext cx="3772080" cy="400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6"/>
          <p:cNvPicPr/>
          <p:nvPr/>
        </p:nvPicPr>
        <p:blipFill>
          <a:blip r:embed="rId2"/>
          <a:stretch/>
        </p:blipFill>
        <p:spPr>
          <a:xfrm>
            <a:off x="5724360" y="155736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"/>
          <p:cNvPicPr/>
          <p:nvPr/>
        </p:nvPicPr>
        <p:blipFill>
          <a:blip r:embed="rId3"/>
          <a:stretch/>
        </p:blipFill>
        <p:spPr>
          <a:xfrm>
            <a:off x="4140360" y="4724280"/>
            <a:ext cx="1609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ечение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- это изображение</a:t>
            </a:r>
            <a:r>
              <a:rPr b="0" lang="ru-RU" sz="4000" spc="-1" strike="noStrike" u="sng">
                <a:solidFill>
                  <a:srgbClr val="0099ff"/>
                </a:solidFill>
                <a:uFillTx/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фигуры, полученной при мысленном рассечении предмета секущей плоскость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Помогает получать более четкое представление о форме предм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Дает возможность выполнять меньшее количество изображений на чертеж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Мысленно провести секущую плоскость в том месте детали, где необходимо определить форму внутреннего кон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4932360" y="1557360"/>
            <a:ext cx="344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Мысленно удаляем одну из часте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1"/>
          <a:stretch/>
        </p:blipFill>
        <p:spPr>
          <a:xfrm>
            <a:off x="4716360" y="1828800"/>
            <a:ext cx="350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00:58Z</dcterms:created>
  <dc:creator>User</dc:creator>
  <dc:description/>
  <dc:language>en-US</dc:language>
  <cp:lastModifiedBy>Admin</cp:lastModifiedBy>
  <dcterms:modified xsi:type="dcterms:W3CDTF">2012-11-28T15:59:33Z</dcterms:modified>
  <cp:revision>24</cp:revision>
  <dc:subject/>
  <dc:title>Сечение</dc:title>
</cp:coreProperties>
</file>